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4000-07B4-4069-981E-D354F323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E97B-0135-453D-9E38-65284006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4269-236A-40B5-87BF-3887F8D4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9B87-3BEB-4574-B52F-BE181158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203A-CAA9-4CE5-820F-CF0DD704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D7BD-6088-45AB-93B2-02832588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412B-9699-46CB-85DF-BC2C3437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7825-5741-4335-9DCB-C242DAD6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4DFB-8F4E-4005-ADF4-ED345318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9817-771B-48A3-B920-89086CA6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92B2-5499-431D-BD6F-2FA4AA03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C71A-9BB7-4EDF-B175-3E6845C8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DE54-93B8-4D41-8463-1BFE7301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EA90-BCBF-451A-8A44-160DF96B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8C88-F650-4D7F-BEB9-D0181959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6A85-D308-4354-8DEC-6B83BC47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0385-EC2F-4595-B84B-C0AD92F5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184D-378F-4C97-A33C-F18FA3B9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84ED-0146-4ACC-B7A0-B9D560CB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9302-AC7F-4A1F-85C2-86EEB98E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3E76-CE27-4ABA-9A9A-D5038656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D9FB-6F39-435F-97F2-A5329C70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C074-355A-48F1-A170-85EE597A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2581-D2B7-4D93-B0A5-2AA0A4D4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D2C0-E0C7-48A3-9070-F5B4FBCC42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A287-2636-43D7-AFE4-585FB82FB2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076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Give Us a King –</a:t>
            </a:r>
            <a:br>
              <a:rPr sz="4400"/>
            </a:b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The Story of David Continue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rter 5, Lesson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 Sam. 14:24 – 15:3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ges 83-8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David Flees From Jerusalem</a:t>
            </a:r>
            <a:br>
              <a:rPr sz="4400"/>
            </a:b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2 Sam. 15:13-18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advised of the general defection of the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ve orders to leave immedia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servants, body guards and the 600 men who joined him at Gath headed E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 concubines left to keep the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ime he has ever turned his back to the ene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probably thought this seige was from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The Steadfast Friendship of Ittai</a:t>
            </a:r>
            <a:br>
              <a:rPr sz="4000"/>
            </a:b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2 Sam. 15:19-22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tried get It’-ta-i to return to the 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no reason for Ittai to abandon this friend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had not deserved this rejection by the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tai shows us that you do not abandon a friend when he is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A Spy System Starts</a:t>
            </a:r>
            <a:br>
              <a:rPr sz="4400"/>
            </a:b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2 Sam. 15:23-31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iests with the ark remained loy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Za’-dok and A-bi’-a-thar, and their sons were told to return to Jerusalem with the a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’s logic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Lord was with him, He would return him to see the ark and the city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Lord was not with him, then let the Lord do as He pleases with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asked God to turn the counsel of Ahithophel into foolish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David’s Inside Informer – Hushai</a:t>
            </a:r>
            <a:br>
              <a:rPr sz="2800"/>
            </a:b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 2 Sam. 15:32-37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shai can do more good for David on the inside of Absalom’s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strument of defeat for Ahithophel’s couns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he stayed in Jerusalem to join Absal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ystem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shai informs Zadok and Abiath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inform Ahimaaz and Jonathan, their 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then will get word to Dav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while, Absalom entered the city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Review Points From Last Lesson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232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non violated his half-sister, Tam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took no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alom, her full brother, took vengeance on Amnon two years l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took no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alom fled to Gesh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ree years, Joab schemes for  his ret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did, but they did not see each other for two more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nfo on Absalom –</a:t>
            </a:r>
            <a:br>
              <a:rPr sz="4400"/>
            </a:b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2 Sam. 14:25-26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son of David by Maachah, daughter of Talmai king of Geshur, a Syrian district adjoining the northeast portion of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brother to Tamar; Half-brother to Amn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s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blemishes from head to to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t his hair once a year when it got “heav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three sons and one daugh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His sons died young – see 2 Sam. 18: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Remember –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First Six Sons Born to David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n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Ahinoam the Jezreelit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’-eab by Abigail the Carmelit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b’-sa-l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Maacah, the daughter of Tal’-mai king of Gesh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-o-ni’-jah by Hagg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ph-a-ti’-ah by Ab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h’-re-am by Egl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ll six were born in Hebron – 2 Sam. 3:2-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o doubt Chileab was dead by now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oday’s Lesson Picks Up He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 years since Amnon forced his s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steps in the direction of reconcil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ab becomes an intercess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people are insinc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alom hated losing power more than he disliked the broken relationship with his fa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ort at reconciliation was pretentious on David’s p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, David relented and saw Absal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bsalom Rebels</a:t>
            </a:r>
            <a:br>
              <a:rPr sz="4400"/>
            </a:b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2 Sam. 15:1-12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pared chariots, horses with 50 m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me a “politician” at the g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med David for the lack of jus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pted obeisance from the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ked David to let him go to Hebron to worship (after 4 years; as a pretens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n his conspiracy grew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2108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105520" y="1828800"/>
            <a:ext cx="1066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sh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b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885840" y="2286000"/>
            <a:ext cx="114300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200400" y="2971800"/>
            <a:ext cx="17524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819520" y="3657600"/>
            <a:ext cx="220968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1752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Absalom First F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2590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He Began His Rebe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342900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David Had Earlier Influenced A Following of 600 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Sometimes Devious Motives Are Supported By Other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hith’-ophel, David’s counselor and Bathsheba’s grandfather, encouraged Absalom's devious mo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hould have encouraged Absalom to do the right 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Sometimes Devious Motives Are Supported By Other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in God has “Marked” for us those who cause division in the kingdom – Rom.16: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rson who causes division is condem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rson who supports and encourages division is condem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8:57:15Z</dcterms:created>
  <dc:creator>Terry W. Benton</dc:creator>
  <dc:description/>
  <dc:language>en-US</dc:language>
  <cp:lastModifiedBy>Frank D Vines</cp:lastModifiedBy>
  <dcterms:modified xsi:type="dcterms:W3CDTF">2005-07-07T05:07:11Z</dcterms:modified>
  <cp:revision>17</cp:revision>
  <dc:subject/>
  <dc:title>Give Us a King</dc:title>
</cp:coreProperties>
</file>